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755-33D7-4967-9B2A-DC595A13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7D6-BC3F-4868-B107-9FE89486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B2D-5C76-4669-844E-656F7490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510-57FA-4976-8C0D-2B803840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348-B65E-4785-8584-A275F3F1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079-64F4-4747-A1A3-291B7764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1D7-593C-4C22-BC95-83792FE9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FC8-843D-41DC-B0E0-12B60F0A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752-209D-4662-B3F1-70ECC720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DC0-EC35-4884-8763-21FAD20A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A6A-65AD-4EC3-82EB-F25A8251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C6C8-9F65-49D9-8351-BD877B15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0F3F-7341-4C31-B87F-7E41EA3DB6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storic Photos &amp; Postcards of Little Roc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RSD Third Grade Social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8b32403r"/>
          <p:cNvPicPr/>
          <p:nvPr/>
        </p:nvPicPr>
        <p:blipFill>
          <a:blip r:embed="rId1"/>
          <a:stretch/>
        </p:blipFill>
        <p:spPr>
          <a:xfrm>
            <a:off x="762120" y="228600"/>
            <a:ext cx="4906800" cy="6172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6172200" y="19051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rothea Lange, 1938.  Library of Congress Prints and Photographs Divis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33520" y="61722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th Street, 1941.  Mosaic Templars Cultural Cent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9th-street1941"/>
          <p:cNvPicPr/>
          <p:nvPr/>
        </p:nvPicPr>
        <p:blipFill>
          <a:blip r:embed="rId1"/>
          <a:stretch/>
        </p:blipFill>
        <p:spPr>
          <a:xfrm>
            <a:off x="609480" y="228600"/>
            <a:ext cx="75438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mainstret"/>
          <p:cNvPicPr/>
          <p:nvPr/>
        </p:nvPicPr>
        <p:blipFill>
          <a:blip r:embed="rId1"/>
          <a:stretch/>
        </p:blipFill>
        <p:spPr>
          <a:xfrm>
            <a:off x="838080" y="304920"/>
            <a:ext cx="7162920" cy="5402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85800" y="579132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in Street, looking south from Markham,  ca. 1950-19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514145701_be63a0687e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651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80880" y="617220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wntown Little Rock, 1958.  Thomas O’Halloran.  Library of Congress Prints and Photographs Divis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LRBridgeTwo1-thumb"/>
          <p:cNvPicPr/>
          <p:nvPr/>
        </p:nvPicPr>
        <p:blipFill>
          <a:blip r:embed="rId1"/>
          <a:stretch/>
        </p:blipFill>
        <p:spPr>
          <a:xfrm>
            <a:off x="2286000" y="598320"/>
            <a:ext cx="4191120" cy="269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litdt_phototour17"/>
          <p:cNvPicPr/>
          <p:nvPr/>
        </p:nvPicPr>
        <p:blipFill>
          <a:blip r:embed="rId2"/>
          <a:stretch/>
        </p:blipFill>
        <p:spPr>
          <a:xfrm>
            <a:off x="2286000" y="3505320"/>
            <a:ext cx="41911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ittle_Rock_23_sm"/>
          <p:cNvPicPr/>
          <p:nvPr/>
        </p:nvPicPr>
        <p:blipFill>
          <a:blip r:embed="rId1"/>
          <a:stretch/>
        </p:blipFill>
        <p:spPr>
          <a:xfrm>
            <a:off x="455760" y="341280"/>
            <a:ext cx="7850160" cy="5888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14400" y="640080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iver Rail Streetcar.  John Smatlak,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OSH_Union_f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5198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066680" y="6095880"/>
            <a:ext cx="70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ld State House under Union Occupation, 1863-1864.  Courtesy Ohio Historical Society.  Encyclopedia of Arkans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rossing_river_argenta_f"/>
          <p:cNvPicPr/>
          <p:nvPr/>
        </p:nvPicPr>
        <p:blipFill>
          <a:blip r:embed="rId1"/>
          <a:stretch/>
        </p:blipFill>
        <p:spPr>
          <a:xfrm>
            <a:off x="609480" y="533520"/>
            <a:ext cx="526752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248520" y="1371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6095880" y="1828800"/>
            <a:ext cx="259092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d8d0"/>
                </a:solidFill>
                <a:latin typeface="Arial"/>
              </a:rPr>
              <a:t>Crossing the frozen Arkansas River from Little Rock to Argenta (Pulaski County), now North Little Rock; winter of 187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ed8d0"/>
                </a:solidFill>
                <a:latin typeface="Arial"/>
              </a:rPr>
              <a:t>Courtesy of the Arkansas History Commission.  </a:t>
            </a:r>
            <a:r>
              <a:rPr b="0" lang="en-US" sz="1600" spc="-1" strike="noStrike">
                <a:solidFill>
                  <a:srgbClr val="ced8d0"/>
                </a:solidFill>
                <a:latin typeface="Arial"/>
              </a:rPr>
              <a:t>Encyclopedia of Arkans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ntiquepc311"/>
          <p:cNvPicPr/>
          <p:nvPr/>
        </p:nvPicPr>
        <p:blipFill>
          <a:blip r:embed="rId1"/>
          <a:stretch/>
        </p:blipFill>
        <p:spPr>
          <a:xfrm>
            <a:off x="685800" y="762120"/>
            <a:ext cx="807732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6a17392t"/>
          <p:cNvPicPr/>
          <p:nvPr/>
        </p:nvPicPr>
        <p:blipFill>
          <a:blip r:embed="rId1"/>
          <a:stretch/>
        </p:blipFill>
        <p:spPr>
          <a:xfrm>
            <a:off x="380880" y="4191120"/>
            <a:ext cx="8391600" cy="1576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04920" y="5867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Verdana"/>
              </a:rPr>
              <a:t>Haines Photo Co.; February 8, 1916.</a:t>
            </a:r>
            <a:r>
              <a:rPr b="0" lang="en-US" sz="2400" spc="-1" strike="noStrike">
                <a:solidFill>
                  <a:srgbClr val="66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6a00970t"/>
          <p:cNvPicPr/>
          <p:nvPr/>
        </p:nvPicPr>
        <p:blipFill>
          <a:blip r:embed="rId2"/>
          <a:stretch/>
        </p:blipFill>
        <p:spPr>
          <a:xfrm>
            <a:off x="380880" y="609480"/>
            <a:ext cx="8382240" cy="183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09480" y="2590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Verdana"/>
              </a:rPr>
              <a:t>Haines Photo Co.; April 28, 1910.</a:t>
            </a:r>
            <a:r>
              <a:rPr b="0" lang="en-US" sz="2400" spc="-1" strike="noStrike">
                <a:solidFill>
                  <a:srgbClr val="66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a23591r"/>
          <p:cNvPicPr/>
          <p:nvPr/>
        </p:nvPicPr>
        <p:blipFill>
          <a:blip r:embed="rId1"/>
          <a:stretch/>
        </p:blipFill>
        <p:spPr>
          <a:xfrm>
            <a:off x="914400" y="304920"/>
            <a:ext cx="7010280" cy="5629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80880" y="6172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 Street, Little Rock, Arkansas.  Detroit Publishing Company, ca. 1900-192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09480" y="63244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berty Parade, 1918.  Mosaic Templars Cultural Cen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liberty-parade-1918"/>
          <p:cNvPicPr/>
          <p:nvPr/>
        </p:nvPicPr>
        <p:blipFill>
          <a:blip r:embed="rId1"/>
          <a:stretch/>
        </p:blipFill>
        <p:spPr>
          <a:xfrm>
            <a:off x="533520" y="228600"/>
            <a:ext cx="75438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10391pr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440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624852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 from southeast. April 12, 1934. Reynolds. HABS ARK,60-LIRO,1-2, Library of Congr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8a16166r"/>
          <p:cNvPicPr/>
          <p:nvPr/>
        </p:nvPicPr>
        <p:blipFill>
          <a:blip r:embed="rId1"/>
          <a:stretch/>
        </p:blipFill>
        <p:spPr>
          <a:xfrm>
            <a:off x="533520" y="228600"/>
            <a:ext cx="7875360" cy="5549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838080" y="58672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day in Little Rock Arkansas.  Ben Shahn, Oct. 193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22:08:00Z</dcterms:created>
  <dc:creator>Kristin  Mann</dc:creator>
  <dc:description/>
  <dc:language>en-US</dc:language>
  <cp:lastModifiedBy>laura.arnold</cp:lastModifiedBy>
  <dcterms:modified xsi:type="dcterms:W3CDTF">2012-08-17T15:54:33Z</dcterms:modified>
  <cp:revision>2</cp:revision>
  <dc:subject/>
  <dc:title>Historic Photos &amp; Postcards of Little Rock</dc:title>
</cp:coreProperties>
</file>